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31.xml" ContentType="application/vnd.openxmlformats-officedocument.theme+xml"/>
  <Override PartName="/ppt/theme/theme43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.png" ContentType="image/png"/>
  <Override PartName="/ppt/media/image2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notesMasterIdLst>
    <p:notesMasterId r:id="rId44"/>
  </p:notesMasterIdLst>
  <p:sldIdLst>
    <p:sldId id="256" r:id="rId45"/>
    <p:sldId id="257" r:id="rId46"/>
    <p:sldId id="258" r:id="rId47"/>
    <p:sldId id="259" r:id="rId48"/>
    <p:sldId id="260" r:id="rId49"/>
    <p:sldId id="261" r:id="rId50"/>
    <p:sldId id="262" r:id="rId51"/>
    <p:sldId id="263" r:id="rId52"/>
    <p:sldId id="264" r:id="rId53"/>
    <p:sldId id="265" r:id="rId54"/>
    <p:sldId id="266" r:id="rId55"/>
    <p:sldId id="267" r:id="rId56"/>
    <p:sldId id="268" r:id="rId57"/>
    <p:sldId id="269" r:id="rId58"/>
    <p:sldId id="270" r:id="rId59"/>
    <p:sldId id="271" r:id="rId60"/>
    <p:sldId id="272" r:id="rId61"/>
    <p:sldId id="273" r:id="rId62"/>
    <p:sldId id="274" r:id="rId6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notesMaster" Target="notesMasters/notesMaster1.xml"/><Relationship Id="rId45" Type="http://schemas.openxmlformats.org/officeDocument/2006/relationships/slide" Target="slides/slide1.xml"/><Relationship Id="rId46" Type="http://schemas.openxmlformats.org/officeDocument/2006/relationships/slide" Target="slides/slide2.xml"/><Relationship Id="rId47" Type="http://schemas.openxmlformats.org/officeDocument/2006/relationships/slide" Target="slides/slide3.xml"/><Relationship Id="rId48" Type="http://schemas.openxmlformats.org/officeDocument/2006/relationships/slide" Target="slides/slide4.xml"/><Relationship Id="rId49" Type="http://schemas.openxmlformats.org/officeDocument/2006/relationships/slide" Target="slides/slide5.xml"/><Relationship Id="rId50" Type="http://schemas.openxmlformats.org/officeDocument/2006/relationships/slide" Target="slides/slide6.xml"/><Relationship Id="rId51" Type="http://schemas.openxmlformats.org/officeDocument/2006/relationships/slide" Target="slides/slide7.xml"/><Relationship Id="rId52" Type="http://schemas.openxmlformats.org/officeDocument/2006/relationships/slide" Target="slides/slide8.xml"/><Relationship Id="rId53" Type="http://schemas.openxmlformats.org/officeDocument/2006/relationships/slide" Target="slides/slide9.xml"/><Relationship Id="rId54" Type="http://schemas.openxmlformats.org/officeDocument/2006/relationships/slide" Target="slides/slide10.xml"/><Relationship Id="rId55" Type="http://schemas.openxmlformats.org/officeDocument/2006/relationships/slide" Target="slides/slide11.xml"/><Relationship Id="rId56" Type="http://schemas.openxmlformats.org/officeDocument/2006/relationships/slide" Target="slides/slide12.xml"/><Relationship Id="rId57" Type="http://schemas.openxmlformats.org/officeDocument/2006/relationships/slide" Target="slides/slide13.xml"/><Relationship Id="rId58" Type="http://schemas.openxmlformats.org/officeDocument/2006/relationships/slide" Target="slides/slide14.xml"/><Relationship Id="rId59" Type="http://schemas.openxmlformats.org/officeDocument/2006/relationships/slide" Target="slides/slide15.xml"/><Relationship Id="rId60" Type="http://schemas.openxmlformats.org/officeDocument/2006/relationships/slide" Target="slides/slide16.xml"/><Relationship Id="rId61" Type="http://schemas.openxmlformats.org/officeDocument/2006/relationships/slide" Target="slides/slide17.xml"/><Relationship Id="rId62" Type="http://schemas.openxmlformats.org/officeDocument/2006/relationships/slide" Target="slides/slide18.xml"/><Relationship Id="rId63" Type="http://schemas.openxmlformats.org/officeDocument/2006/relationships/slide" Target="slides/slide1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4E498-E1A8-4FCE-9415-83D645105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0A9A4-9660-47AF-9343-6AE0635EFBC0}" type="slidenum">
              <a:rPr b="0" lang="en-US" sz="1200" spc="-1" strike="noStrike">
                <a:solidFill>
                  <a:srgbClr val="314b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Verwijzing naar cirkels + uitleg ‘verloren energie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5D2C6-F16C-4C47-865A-5F64798D8F3B}" type="slidenum">
              <a:rPr b="0" lang="en-US" sz="1200" spc="-1" strike="noStrike">
                <a:solidFill>
                  <a:srgbClr val="314b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Cijfers toevoegen per 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E3BC6-68B3-4F7B-AF2E-851863351D72}" type="slidenum">
              <a:rPr b="0" lang="en-US" sz="1200" spc="-1" strike="noStrike">
                <a:solidFill>
                  <a:srgbClr val="314b5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2A8C3-1210-4456-9669-FCA4D90BCF66}" type="slidenum">
              <a:rPr b="0" lang="en-US" sz="1200" spc="-1" strike="noStrike">
                <a:solidFill>
                  <a:srgbClr val="314b5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+ uitleg fight/flight/freeze en link naar stresssigna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42821-8DD8-406E-AC39-056A18467733}" type="slidenum">
              <a:rPr b="0" lang="en-US" sz="1200" spc="-1" strike="noStrike">
                <a:solidFill>
                  <a:srgbClr val="314b5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314b56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E4F6-8AC3-44FB-904C-385A73B26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F639-6167-4650-A83B-E48A36A3B59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E922-BEF1-410A-A408-8B3762EB3A5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6591-DC0C-4C1A-AF69-8D56A34C091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CE0C-FD3A-4E1D-9660-140407B7B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891A-F700-4081-AEC8-104513F678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1E89-4F30-4AAA-B813-F602607F73BB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7DC8-3E45-4869-A1C4-7548A3166C14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3AE9-F3F7-4122-8E40-3EB5F93B4A37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5439-1639-4ABC-B8F9-51F94CA0B6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3B91-083C-4F64-948F-7FDE9E630573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B931-2605-4A42-885B-CFD992CBBF16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356F-F060-439A-BB74-4EAA4F7EC738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6D75-E91E-42C9-86C2-40FBA028DCF9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D74B-59AC-41DD-9521-484899CC89B5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9885-8A9D-4E23-A4B4-7599625F77F9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5C146-332A-4942-833F-121F292B4BC7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F6A3-0C15-47A0-B167-AFEF2AFD2264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DD8D-8A14-4C4F-906E-85C0996A4143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0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BBA-81C4-4BE6-8F1B-91E771BAC31F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156B-30D6-4E74-A2E5-F928B88BE0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555-8E4D-4580-A8B3-68DADCCF0912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F0E-332B-4FE8-8BFC-26D30611FEE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548-5A86-461A-B979-B472E5DCF8C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FBB-6515-490E-87FF-5038BD6FC3F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D08-B86F-4148-AD74-EE9309E6EDD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232-E646-4C15-96EA-0115E4899A0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E35-EA9B-44A8-9DEA-0CDFB7540E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806-7151-481F-8B4D-132775FFF7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5BD-7520-4EE2-8413-9030533B345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9FB-AA22-4F84-AEB3-5C39F4167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5538-A574-4C29-8D40-DCFC3FEDA80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853-4034-496E-9119-EF40DA03459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A4C6-D6B5-423C-8324-B9847E2DD7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5A1E-D6B1-4453-9A3F-2505363C127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37AE-7D63-4B68-B075-D266A7A4BE2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22360" y="-6840"/>
            <a:ext cx="47750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2000" y="3177000"/>
            <a:ext cx="810108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145908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200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3160" y="3177000"/>
            <a:ext cx="3953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6088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00120" y="145908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2200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6088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00120" y="3177000"/>
            <a:ext cx="260820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93320"/>
            <a:ext cx="8234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eo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le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195200"/>
            <a:ext cx="8234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38720" y="5297040"/>
            <a:ext cx="4665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91bea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CAF60-C4C5-4A8D-8038-06BDB32DA5CF}" type="slidenum">
              <a:rPr b="0" lang="en-US" sz="600" spc="-1" strike="noStrike">
                <a:solidFill>
                  <a:srgbClr val="91bea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7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6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hthoek 3"/>
          <p:cNvSpPr/>
          <p:nvPr/>
        </p:nvSpPr>
        <p:spPr>
          <a:xfrm>
            <a:off x="522360" y="1477800"/>
            <a:ext cx="3537000" cy="314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pic>
        <p:nvPicPr>
          <p:cNvPr id="779" name="Picture 8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7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hthoek 3"/>
          <p:cNvSpPr/>
          <p:nvPr/>
        </p:nvSpPr>
        <p:spPr>
          <a:xfrm>
            <a:off x="522360" y="1477800"/>
            <a:ext cx="8101080" cy="3179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pic>
        <p:nvPicPr>
          <p:cNvPr id="858" name="Picture 7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Afbeelding 3" descr=""/>
          <p:cNvPicPr/>
          <p:nvPr/>
        </p:nvPicPr>
        <p:blipFill>
          <a:blip r:embed="rId2"/>
          <a:stretch/>
        </p:blipFill>
        <p:spPr>
          <a:xfrm>
            <a:off x="0" y="0"/>
            <a:ext cx="7354800" cy="5715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3"/>
          <a:stretch/>
        </p:blipFill>
        <p:spPr>
          <a:xfrm>
            <a:off x="522360" y="5137200"/>
            <a:ext cx="1035000" cy="18720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93320"/>
            <a:ext cx="8234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eo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le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6840" y="1195200"/>
            <a:ext cx="8234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246" name="Rechthoek 4"/>
          <p:cNvSpPr/>
          <p:nvPr/>
        </p:nvSpPr>
        <p:spPr>
          <a:xfrm>
            <a:off x="2292480" y="2399760"/>
            <a:ext cx="4572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7842a4"/>
                </a:solidFill>
                <a:latin typeface="Arial Black"/>
              </a:rPr>
              <a:t>Vragen of</a:t>
            </a:r>
            <a:br>
              <a:rPr sz="2800"/>
            </a:br>
            <a:r>
              <a:rPr b="0" lang="nl-NL" sz="2800" spc="-1" strike="noStrike">
                <a:solidFill>
                  <a:srgbClr val="7842a4"/>
                </a:solidFill>
                <a:latin typeface="Arial Black"/>
              </a:rPr>
              <a:t>opmerkingen?</a:t>
            </a:r>
            <a:endParaRPr b="0" lang="en-US" sz="2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99-end-white.png"/>
          <p:cNvPicPr/>
          <p:nvPr/>
        </p:nvPicPr>
        <p:blipFill>
          <a:blip r:embed="rId3"/>
          <a:srcRect l="1237" t="0" r="0" b="0"/>
          <a:stretch/>
        </p:blipFill>
        <p:spPr>
          <a:xfrm>
            <a:off x="0" y="409680"/>
            <a:ext cx="7818480" cy="4824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93320"/>
            <a:ext cx="8234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eo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le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195200"/>
            <a:ext cx="8234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2"/>
          </p:nvPr>
        </p:nvSpPr>
        <p:spPr>
          <a:xfrm>
            <a:off x="4338720" y="5297040"/>
            <a:ext cx="4665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91bea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71C95-3B73-4E2E-A174-69619D63587C}" type="slidenum">
              <a:rPr b="0" lang="en-US" sz="600" spc="-1" strike="noStrike">
                <a:solidFill>
                  <a:srgbClr val="91bea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93320"/>
            <a:ext cx="8234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eo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le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6840" y="1195200"/>
            <a:ext cx="82342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10369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314b5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4338720" y="5297040"/>
            <a:ext cx="4665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91bea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8D7CB-3DB5-4A8B-9B5E-AE1C8EBBBD3C}" type="slidenum">
              <a:rPr b="0" lang="en-US" sz="600" spc="-1" strike="noStrike">
                <a:solidFill>
                  <a:srgbClr val="91bea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kstvak 3"/>
          <p:cNvSpPr/>
          <p:nvPr/>
        </p:nvSpPr>
        <p:spPr>
          <a:xfrm>
            <a:off x="755640" y="3697200"/>
            <a:ext cx="14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14b56"/>
              </a:solidFill>
              <a:latin typeface="Century Gothic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Click to edit the outline text format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9360" indent="551160">
              <a:spcBef>
                <a:spcPts val="425"/>
              </a:spcBef>
              <a:buClr>
                <a:srgbClr val="7842a4"/>
              </a:buClr>
              <a:buFont typeface="Arial"/>
              <a:buChar char="–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con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2" marL="282600" indent="43020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Third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3" marL="695160" indent="14004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our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4" marL="977760" indent="128880">
              <a:spcBef>
                <a:spcPts val="425"/>
              </a:spcBef>
              <a:buClr>
                <a:srgbClr val="7842a4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Fif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5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ix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6" marL="977760" indent="1288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700" spc="-1" strike="noStrike">
                <a:solidFill>
                  <a:srgbClr val="7842a4"/>
                </a:solidFill>
                <a:latin typeface="Arial Black"/>
              </a:rPr>
              <a:t>Seventh Outline Level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000" spc="-1" strike="noStrike">
                <a:solidFill>
                  <a:srgbClr val="7842a4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erk.belgie.be/moduledefault.aspx?id=33630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0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2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1552320" y="2900160"/>
            <a:ext cx="477972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ts val="2336"/>
              </a:lnSpc>
              <a:spcBef>
                <a:spcPts val="57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 Black"/>
                <a:ea typeface="Aleo"/>
              </a:rPr>
              <a:t>Hoe gaan we om met onze energie?</a:t>
            </a:r>
            <a:endParaRPr b="0" lang="en-US" sz="23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552320" y="2084040"/>
            <a:ext cx="4779720" cy="5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nl-BE" sz="3100" spc="-1" strike="noStrike">
                <a:solidFill>
                  <a:srgbClr val="ffffff"/>
                </a:solidFill>
                <a:latin typeface="Arial Black"/>
              </a:rPr>
              <a:t>Stress en Burn-out”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225000" y="196848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nl-BE" sz="3200" spc="-1" strike="noStrike">
                <a:solidFill>
                  <a:srgbClr val="7842a4"/>
                </a:solidFill>
                <a:latin typeface="Aleo"/>
                <a:ea typeface="Aleo"/>
              </a:rPr>
              <a:t>Stressbeleving</a:t>
            </a:r>
            <a:endParaRPr b="0" lang="en-US" sz="32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520560" y="-6840"/>
            <a:ext cx="72835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Hoe stress voorkomen en aanpakken?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 Black"/>
              </a:rPr>
              <a:t>Balans</a:t>
            </a:r>
            <a:r>
              <a:rPr b="0" lang="nl-BE" sz="2400" spc="-1" strike="noStrike">
                <a:solidFill>
                  <a:srgbClr val="000000"/>
                </a:solidFill>
                <a:latin typeface="Arial Black"/>
              </a:rPr>
              <a:t> in evenwicht brengen door: </a:t>
            </a:r>
            <a:endParaRPr b="0" lang="en-US" sz="24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Veerkracht en weerbaarheid te verhogen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EN/OF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Stresserende situaties/oorzaken aan te pakken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=&gt; Zowel preventief als curatief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225000" y="196848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Oorzaken van stress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Stress beheersen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 Black"/>
              </a:rPr>
              <a:t>Eerste stap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nl-BE" sz="1700" spc="-1" strike="noStrike">
                <a:solidFill>
                  <a:srgbClr val="000000"/>
                </a:solidFill>
                <a:latin typeface="Arial"/>
              </a:rPr>
              <a:t>In kaart brengen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van stressfactoren/oorzaken :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-&gt; waar heb ik impact op? Wat is er veranderbaar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-&gt; waar heb ik geen impact op? Wat is niet veranderbaar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=&gt; Coping/hantering hierop afstemmen!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225000" y="196848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Stressbeheersing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Stress beheersen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456840" y="1195200"/>
            <a:ext cx="4048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70c0"/>
                </a:solidFill>
                <a:latin typeface="Arial Black"/>
              </a:rPr>
              <a:t>VERANDERBAAR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=&gt; </a:t>
            </a:r>
            <a:r>
              <a:rPr b="0" lang="nl-BE" sz="1700" spc="-1" strike="noStrike" u="sng">
                <a:solidFill>
                  <a:srgbClr val="000000"/>
                </a:solidFill>
                <a:uFillTx/>
                <a:latin typeface="Arial Black"/>
              </a:rPr>
              <a:t>Oplossingsgerichte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stressbeheersing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Actief aanpakken van stressbronnen /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oorzaken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1700" spc="-1" strike="noStrike">
              <a:solidFill>
                <a:srgbClr val="6aa193"/>
              </a:solidFill>
              <a:latin typeface="Arial Black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4642920" y="1195200"/>
            <a:ext cx="4048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ff0000"/>
                </a:solidFill>
                <a:latin typeface="Arial Black"/>
              </a:rPr>
              <a:t>NIET VERANDERBAAR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=&gt; </a:t>
            </a:r>
            <a:r>
              <a:rPr b="0" lang="nl-BE" sz="1700" spc="-1" strike="noStrike" u="sng">
                <a:solidFill>
                  <a:srgbClr val="000000"/>
                </a:solidFill>
                <a:uFillTx/>
                <a:latin typeface="Arial Black"/>
              </a:rPr>
              <a:t>Emotiegerichte 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stressbeheersing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Omgaan met stressbronnen die ik niet 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kan veranderen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225000" y="196848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Aan de slag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Aan de sla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-&gt; welk actiepunt (oplossingsgericht of emotiegericht) neem jij de volgende maanden op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Maak een actieplan op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at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anneer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at heb ik ervoor nodi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e ga ik dit evalueren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af87cf"/>
                </a:solidFill>
                <a:latin typeface="Arial Black"/>
              </a:rPr>
              <a:t>Eigen</a:t>
            </a:r>
            <a:r>
              <a:rPr b="0" lang="nl-BE" sz="1700" spc="-1" strike="noStrike">
                <a:solidFill>
                  <a:srgbClr val="c9afdf"/>
                </a:solidFill>
                <a:latin typeface="Arial Black"/>
              </a:rPr>
              <a:t> </a:t>
            </a:r>
            <a:r>
              <a:rPr b="0" lang="nl-BE" sz="1700" spc="-1" strike="noStrike">
                <a:solidFill>
                  <a:srgbClr val="af87cf"/>
                </a:solidFill>
                <a:latin typeface="Arial Black"/>
              </a:rPr>
              <a:t>actieplan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98040" y="181116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Vragen?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/>
          </p:nvPr>
        </p:nvSpPr>
        <p:spPr>
          <a:xfrm>
            <a:off x="522000" y="1447560"/>
            <a:ext cx="810108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Team We Care for You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Vertrouwenspersoon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Liantis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"/>
              </a:rPr>
              <a:t>Arbeidsarts: …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"/>
              </a:rPr>
              <a:t>Team psychosociaal welzijn: …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</a:rPr>
              <a:t>Contactgegevens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6840" y="88560"/>
            <a:ext cx="823428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Inhoudstafel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456840" y="825120"/>
            <a:ext cx="823428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Inleidin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Inzicht in het fenomeen stress, burn-ou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Stressbelevin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Oorzaken van stress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Stressbeheersin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marL="711360" indent="-711360"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761760" y="179532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Inleiding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Inleiding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522000" y="1459080"/>
            <a:ext cx="8101080" cy="32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2017: Tevredenheidsenquête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=&gt; Over het algemeen veel stress, maar wel sterk afhankelijk van afdeling tot afdeling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Inzetten op preventie en aanpak van stress en BO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1700" spc="-1" strike="noStrike">
                <a:solidFill>
                  <a:srgbClr val="000000"/>
                </a:solidFill>
                <a:latin typeface="Arial"/>
              </a:rPr>
              <a:t>(2019: We Care For You)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Voorjaar 2018: sessies leidinggevenden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25"/>
              </a:spcBef>
              <a:buClr>
                <a:srgbClr val="7842a4"/>
              </a:buClr>
              <a:buFont typeface="Symbol" charset="2"/>
              <a:buChar char="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Najaar 2018 + 2019: sessies per team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20440" y="2139840"/>
            <a:ext cx="72723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674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3100" spc="-1" strike="noStrike">
                <a:solidFill>
                  <a:srgbClr val="7842a4"/>
                </a:solidFill>
                <a:latin typeface="Arial Black"/>
              </a:rPr>
              <a:t>Inzicht in het fenomeen stress/burn-out</a:t>
            </a:r>
            <a:endParaRPr b="0" lang="en-US" sz="3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1278000" y="2921040"/>
            <a:ext cx="51847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2200" spc="-1" strike="noStrike">
              <a:solidFill>
                <a:srgbClr val="7842a4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/>
          </p:nvPr>
        </p:nvSpPr>
        <p:spPr>
          <a:xfrm>
            <a:off x="522000" y="1447560"/>
            <a:ext cx="8101080" cy="33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Hoe merk je stress op bij jezelf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3e3d40"/>
                </a:solidFill>
                <a:latin typeface="Arial Black"/>
              </a:rPr>
              <a:t>Welke stresssignalen zie je soms bij anderen? 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</a:rPr>
              <a:t>Stresssignalen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7824960" y="4959360"/>
            <a:ext cx="823680" cy="503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600" spc="-1" strike="noStrike">
              <a:solidFill>
                <a:srgbClr val="7842a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Stress en burn-out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456840" y="4684680"/>
            <a:ext cx="823428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7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100" spc="-1" strike="noStrike">
                <a:solidFill>
                  <a:srgbClr val="7842a4"/>
                </a:solidFill>
                <a:latin typeface="Arial Black"/>
                <a:ea typeface="ＭＳ Ｐゴシック"/>
              </a:rPr>
              <a:t>Bron: Onderzoek naar burnout bij de Belgische beroepsbevolking: samenvatting van het eindverslag (</a:t>
            </a:r>
            <a:r>
              <a:rPr b="0" lang="nl-BE" sz="1100" spc="-1" strike="noStrike" u="sng">
                <a:solidFill>
                  <a:srgbClr val="86878a"/>
                </a:solidFill>
                <a:uFillTx/>
                <a:latin typeface="Arial Black"/>
                <a:ea typeface="ＭＳ Ｐゴシック"/>
                <a:hlinkClick r:id="rId1"/>
              </a:rPr>
              <a:t>http://www.werk.belgie.be/moduledefault.aspx?id=33630</a:t>
            </a:r>
            <a:r>
              <a:rPr b="0" lang="nl-BE" sz="1100" spc="-1" strike="noStrike">
                <a:solidFill>
                  <a:srgbClr val="7842a4"/>
                </a:solidFill>
                <a:latin typeface="Arial Black"/>
                <a:ea typeface="ＭＳ Ｐゴシック"/>
              </a:rPr>
              <a:t>, 2015)</a:t>
            </a:r>
            <a:endParaRPr b="0" lang="en-US" sz="11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af87cf"/>
                </a:solidFill>
                <a:latin typeface="Arial Black"/>
              </a:rPr>
              <a:t>Gevolgen voor het individu (evenals signalen)</a:t>
            </a: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</p:txBody>
      </p:sp>
      <p:pic>
        <p:nvPicPr>
          <p:cNvPr id="1653" name="Diagram 1" descr=""/>
          <p:cNvPicPr/>
          <p:nvPr/>
        </p:nvPicPr>
        <p:blipFill>
          <a:blip r:embed="rId2"/>
          <a:stretch/>
        </p:blipFill>
        <p:spPr>
          <a:xfrm>
            <a:off x="560520" y="822240"/>
            <a:ext cx="800388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Wat is stress?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5857920" y="2049480"/>
            <a:ext cx="2419200" cy="19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nl-BE" sz="2200" spc="-1" strike="noStrike">
                <a:solidFill>
                  <a:srgbClr val="7842a4"/>
                </a:solidFill>
                <a:latin typeface="Arial Black"/>
                <a:ea typeface="ＭＳ Ｐゴシック"/>
              </a:rPr>
              <a:t>Draagkracht</a:t>
            </a:r>
            <a:endParaRPr b="0" lang="en-US" sz="22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= 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gelijkheden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rktes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iale steun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9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1700" spc="-1" strike="noStrike">
              <a:solidFill>
                <a:srgbClr val="6aa193"/>
              </a:solidFill>
              <a:latin typeface="Arial Black"/>
              <a:ea typeface="ＭＳ Ｐゴシック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125640" y="2081160"/>
            <a:ext cx="2711160" cy="25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nl-BE" sz="2400" spc="-1" strike="noStrike">
                <a:solidFill>
                  <a:srgbClr val="7842a4"/>
                </a:solidFill>
                <a:latin typeface="Arial Black"/>
                <a:ea typeface="ＭＳ Ｐゴシック"/>
              </a:rPr>
              <a:t>Draaglast</a:t>
            </a:r>
            <a:endParaRPr b="0" lang="en-US" sz="24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=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sen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  <a:p>
            <a:pPr lvl="1" marL="51444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wach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Picture 2" descr=""/>
          <p:cNvPicPr/>
          <p:nvPr/>
        </p:nvPicPr>
        <p:blipFill>
          <a:blip r:embed="rId1"/>
          <a:stretch/>
        </p:blipFill>
        <p:spPr>
          <a:xfrm>
            <a:off x="2852640" y="1841400"/>
            <a:ext cx="2467080" cy="21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22360" y="-6840"/>
            <a:ext cx="47750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2000" spc="-1" strike="noStrike">
                <a:solidFill>
                  <a:srgbClr val="7842a4"/>
                </a:solidFill>
                <a:latin typeface="Arial Black"/>
                <a:ea typeface="Aleo"/>
              </a:rPr>
              <a:t>Wat is burn-out? 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522000" y="1221840"/>
            <a:ext cx="810108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700" spc="-1" strike="noStrike">
              <a:solidFill>
                <a:srgbClr val="7842a4"/>
              </a:solidFill>
              <a:latin typeface="Arial Black"/>
            </a:endParaRPr>
          </a:p>
          <a:p>
            <a:pPr>
              <a:spcBef>
                <a:spcPts val="499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nl-BE" sz="17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Arial Black"/>
              </a:rPr>
              <a:t>= Energiestoornis</a:t>
            </a:r>
            <a:endParaRPr b="0" lang="en-US" sz="2000" spc="-1" strike="noStrike">
              <a:solidFill>
                <a:srgbClr val="7842a4"/>
              </a:solidFill>
              <a:latin typeface="Arial Black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6840" y="655560"/>
            <a:ext cx="823428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nl-BE" sz="1700" spc="-1" strike="noStrike">
              <a:solidFill>
                <a:srgbClr val="fffea8"/>
              </a:solidFill>
              <a:latin typeface="Arial Black"/>
            </a:endParaRPr>
          </a:p>
        </p:txBody>
      </p:sp>
      <p:pic>
        <p:nvPicPr>
          <p:cNvPr id="1662" name="Picture 2" descr=""/>
          <p:cNvPicPr/>
          <p:nvPr/>
        </p:nvPicPr>
        <p:blipFill>
          <a:blip r:embed="rId1"/>
          <a:stretch/>
        </p:blipFill>
        <p:spPr>
          <a:xfrm>
            <a:off x="723960" y="1960560"/>
            <a:ext cx="769608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17:54:59Z</dcterms:created>
  <dc:creator>Andy Van Laer</dc:creator>
  <dc:description/>
  <dc:language>en-US</dc:language>
  <cp:lastModifiedBy>Nicolas Claus</cp:lastModifiedBy>
  <dcterms:modified xsi:type="dcterms:W3CDTF">2020-02-03T10:56:19Z</dcterms:modified>
  <cp:revision>367</cp:revision>
  <dc:subject/>
  <dc:title>ADMB PowerPoint The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F7F2909C47A14CBDA1A09A10F70626</vt:lpwstr>
  </property>
</Properties>
</file>